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4D27-3911-4702-A9B5-420134C2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6C70-FCF5-4BD7-A31C-46A0E75A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32DA-58BB-44A7-B89B-C0505A09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B45E-6951-43AC-B592-3C970C7B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E0A-7110-43EE-A9A2-FFE02625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B97C-CEF7-4272-A1CA-9989C91F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3B3-1603-468F-8157-9F1E68E3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D60-6C46-4FE4-8A6E-ABC98A19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D8D4-76AA-4C2E-9AA3-F41FE46D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CECF-B1AB-4F5E-9391-F6ED5C48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499-26A0-423F-8587-0E2D9F44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622-A4B6-4A78-BE84-3937D7B3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9114-6288-4EB6-8CE3-91D0CFCB16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er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572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mas Ber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riod 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-25-1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erce Part 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hen towns grew so did busines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As a result shopkeepers and traders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e first merchants were drifter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Drifters were people who went from job to job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owns devolved into trade center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Merchants would go were ever the most items was being traded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e first kind of business was tour guiding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ey made pay toll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6858000" y="4038480"/>
            <a:ext cx="1857240" cy="2467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rce Part 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prevented strangers to come into the trade center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also got more money by these pay toll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rchants guides were often wealthy or powerful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were able to loan large amounts of mone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rchants got loans directly from the king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rchants got lots of tax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5791320" y="4714920"/>
            <a:ext cx="1981080" cy="1990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erce Part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y goods were sold or trad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ddlers roamed the lan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 packed everything in boxes and ridded on horses and mu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 carried hats, gloves, purses, and etc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 also carried musical instrume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ce a week the king would go to a marketplac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6324480" y="380880"/>
            <a:ext cx="2543400" cy="1800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7:37:10Z</dcterms:created>
  <dc:creator>Student</dc:creator>
  <dc:description/>
  <dc:language>en-US</dc:language>
  <cp:lastModifiedBy>Student</cp:lastModifiedBy>
  <dcterms:modified xsi:type="dcterms:W3CDTF">2011-04-04T03:08:19Z</dcterms:modified>
  <cp:revision>11</cp:revision>
  <dc:subject/>
  <dc:title>Commerce</dc:title>
</cp:coreProperties>
</file>